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433-4F1B-4ED1-8AB3-944FB893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C61-DA80-4D05-BCB2-BCCF3C1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3D3-1DD4-4FA2-8DA1-99045C8B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709-9274-4991-AE8F-DCCB398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8F0-0D7F-42AF-898A-D8C9CF16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41-122B-4B01-8094-3F63E0A2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14F-A15D-4D5D-B891-AA23937F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419-38DD-4E9B-901C-15D0EF8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2DC-2C39-4D92-975E-132FE81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4C0-21B3-431E-8AAD-4F79280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B4A-DFC2-45F9-9B2E-6557A09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7CE-DA7F-485E-AD0B-A881A1B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530-52A5-439B-948A-640334DD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2:  Comparing Two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we assume that the difference in proportions is zero, we are therefore saying that the two proportions are assumed to b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wo proportions are assumed to be equal, then we also assume that their standard errors are also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403848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l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calculate what that equal proportion is, we combine the data (pool the data) to get one overall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ooled proportion is then used to find the standard err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4038480" cy="771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620120" cy="118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59436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“successes” are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3047760"/>
            <a:ext cx="9144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z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ecking “Success/Failure Condition” you should be chec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ssumptions/conditions and NEVER use two-proportion method if they are not satis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method as with one-propor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-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alculator (STAT TE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with the alternative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difference between the proportion of males and females who have graduated from high school?  Perform a 2-proportion z-test.  (Remember, you have already satisfied the conditions necessary to proce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pg 510,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hapter, we take what we have learned and apply it to comparing two proportions and determining if there is a difference between the two proportions (obtained from two samp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 and Conditions for Two-Proportion z-interval and Two-Proportion z-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Trials (Individuals  Assump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Group Assum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ssumed by looking at the way data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rmal Distribution Assum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/Failur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Distribution Model for a Difference Between Two-Independent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7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, if we know population proportion (very unlik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2480" y="464796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6600" y="578340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make our sampling model (Normal Model)—may need to 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termine a Two-Proportion z-Inter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don’t know population proportions (lik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2480" y="50288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gazine article surveyed 12,460 males and 12,678 females to see if they had finished high school (all aged 24).  84.9% of males and 88.1 females reported “yes”.  Create a 95% confidence interval for the difference in graduation rates between males and females and interpret it in con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we start off with our null hypothesis stating that there is NO difference between the two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the null hypothesis basically says that nothing is go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ropor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Null Hypothesis, typically looks like (but in context for subscripts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886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6:33:47Z</dcterms:created>
  <dc:creator> </dc:creator>
  <dc:description/>
  <dc:language>en-US</dc:language>
  <cp:lastModifiedBy> </cp:lastModifiedBy>
  <dcterms:modified xsi:type="dcterms:W3CDTF">2009-12-14T07:18:47Z</dcterms:modified>
  <cp:revision>11</cp:revision>
  <dc:subject/>
  <dc:title>Chapter 22:  Comparing Two Proportions</dc:title>
</cp:coreProperties>
</file>